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6858000" cy="9907588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C247-4D09-474A-9D0A-D9B69218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58294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5540400"/>
            <a:ext cx="58294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F8AE-C546-4E26-B708-4FE70337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7272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554040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672720" y="554040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1F59-73CC-4940-B024-BB2995D3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656440" y="209088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27080" y="209088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554040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656440" y="554040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627080" y="554040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EE2-2F30-46BF-B79F-C47705FF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2544-AA7B-4137-88CE-B534E166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440" y="2090880"/>
            <a:ext cx="5829480" cy="66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F4C6-3A00-4E20-9F4D-379EBD3A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582948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AE2F-A4A1-4F01-BBB6-6E90DD57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284472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672720" y="2090880"/>
            <a:ext cx="284472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9D35-5B4F-421F-A856-9FCFF3DC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2054-145E-4F1A-82EE-0D41C39B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396360"/>
            <a:ext cx="58294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4AC2-F128-4022-B8DF-DF95B8EE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72720" y="2090880"/>
            <a:ext cx="284472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554040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1189-7E91-4BF7-B7A6-0EAA652C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2090880"/>
            <a:ext cx="5829480" cy="66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6D84-FEB8-41FD-8682-6A0F7A18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284472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67272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72720" y="554040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E98F-D193-4997-8ED0-C02E71AF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7272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5540400"/>
            <a:ext cx="58294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C4BD-CF38-4A33-A3EA-C8D1FD78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58294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440" y="5540400"/>
            <a:ext cx="58294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7D5F-77BA-41E9-A250-3C3C9C1F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7272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440" y="554040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72720" y="554040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E164-73E9-44C6-9D31-84297D07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656440" y="209088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27080" y="209088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440" y="554040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656440" y="554040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4627080" y="554040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BA5C-F998-4BC1-A277-584042C3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C20BD-C34F-4AB5-BEAA-F11302F9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440" y="2090880"/>
            <a:ext cx="5829480" cy="66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8802F-45F1-420C-82DE-BA3507BC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582948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941E6-4E08-4BB5-AC51-56C3AFEC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284472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672720" y="2090880"/>
            <a:ext cx="284472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33288-E569-46D4-97EF-FAF706B9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96C3A-0571-42FA-825A-40EEA352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582948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608C-E7B9-4AD5-AE57-3A4A17CE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440" y="396360"/>
            <a:ext cx="58294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921EC-2FCF-456A-BD72-826721D3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72720" y="2090880"/>
            <a:ext cx="284472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440" y="554040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2CFEA-A34A-41CF-9C90-CB9A9E45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284472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7272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72720" y="554040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D7CED-B704-492B-8CD2-CA7FABF2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7272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440" y="5540400"/>
            <a:ext cx="58294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8924D-2D85-4C8C-B748-ED180216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58294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440" y="5540400"/>
            <a:ext cx="58294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2B32B-D814-4F17-988F-F3F05055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7272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440" y="554040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672720" y="554040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3592A-F401-4AFE-B24E-CB7DF5E9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656440" y="209088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27080" y="209088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440" y="554040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656440" y="554040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4627080" y="554040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F6F96-CF9C-45DB-AE7F-845286A9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993BB-6FEC-4E3E-AE39-3DA66635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440" y="2090880"/>
            <a:ext cx="5829480" cy="66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5E8A5-E6BE-4F1C-A71C-141D0C7A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582948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E3C62-A12B-46D9-A9BD-391D829F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284472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672720" y="2090880"/>
            <a:ext cx="284472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0ADE-601F-4536-B928-9411BC24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284472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672720" y="2090880"/>
            <a:ext cx="284472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D8D14-BE1E-4ABF-9A2A-0E6AA4CA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2137F-5A60-450C-B814-81F6EEF5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440" y="396360"/>
            <a:ext cx="58294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C7F55-1597-4C6E-818F-31CF2A5C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672720" y="2090880"/>
            <a:ext cx="284472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440" y="554040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8EBBF-40C5-4029-9D59-F1DF9082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284472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7272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672720" y="554040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75A0A-3D24-4E90-AF4A-0E782218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67272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440" y="5540400"/>
            <a:ext cx="58294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3E92D-CD35-488E-AB72-C342FA5F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58294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440" y="5540400"/>
            <a:ext cx="58294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C33A6-B91D-4640-A44B-02F2FD3B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7272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440" y="554040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672720" y="554040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78E30-C628-4C08-B2F3-8BA65973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656440" y="209088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27080" y="209088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440" y="554040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656440" y="554040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627080" y="554040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24A1A-717B-4474-B9B5-B141E21A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3A6CD-6CF3-493B-9759-7D4592BE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10E1-966A-4448-8578-C018688A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5440" y="2090880"/>
            <a:ext cx="5829480" cy="66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8371C-E531-4B78-9E44-C84BF38C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582948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D4428-32B4-4228-91B9-E656A2B6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284472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72720" y="2090880"/>
            <a:ext cx="284472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EFAC4-DC43-4833-B962-7F10F81F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5F7D1-746A-4605-A314-0274F968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85440" y="396360"/>
            <a:ext cx="58294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992C7-A924-44C1-A4CA-6DB03D44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672720" y="2090880"/>
            <a:ext cx="284472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440" y="554040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C86FA-ACA2-4FDB-B2B5-2B3CBF84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284472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67272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672720" y="554040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086F6-1AC9-4575-BC87-42AAB251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67272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440" y="5540400"/>
            <a:ext cx="58294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6D451-31AE-4989-891A-2BB59DAA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58294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85440" y="5540400"/>
            <a:ext cx="58294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C4DBA-A2E1-4609-990A-41BDC96B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67272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440" y="554040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672720" y="554040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A4408-B18E-4839-A806-CE85A781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396360"/>
            <a:ext cx="58294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5257-8111-4F2C-B17E-65B372A4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2656440" y="209088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27080" y="209088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85440" y="554040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2656440" y="554040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4627080" y="554040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6C952-0EBE-48B1-8E30-A88A16FF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672720" y="2090880"/>
            <a:ext cx="284472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554040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A17A-FA62-4095-BFD0-A9C069B3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284472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7272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672720" y="554040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C0BA-7A82-4340-8F21-C6916BDC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72720" y="2090880"/>
            <a:ext cx="28447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5540400"/>
            <a:ext cx="58294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81B0-2E2F-463A-8509-B3172850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47520" y="100080"/>
            <a:ext cx="6761160" cy="9669240"/>
          </a:xfrm>
          <a:custGeom>
            <a:avLst/>
            <a:gdLst>
              <a:gd name="textAreaLeft" fmla="*/ 97560 w 6761160"/>
              <a:gd name="textAreaRight" fmla="*/ 6663600 w 6761160"/>
              <a:gd name="textAreaTop" fmla="*/ 97560 h 9669240"/>
              <a:gd name="textAreaBottom" fmla="*/ 9571680 h 9669240"/>
            </a:gdLst>
            <a:ahLst/>
            <a:rect l="textAreaLeft" t="textAreaTop" r="textAreaRight" b="textAreaBottom"/>
            <a:pathLst>
              <a:path w="21600" h="30890">
                <a:moveTo>
                  <a:pt x="1065" y="0"/>
                </a:moveTo>
                <a:arcTo wR="1065" hR="1065" stAng="16200000" swAng="-5400000"/>
                <a:lnTo>
                  <a:pt x="0" y="29825"/>
                </a:lnTo>
                <a:arcTo wR="1065" hR="1065" stAng="10800000" swAng="-5400000"/>
                <a:lnTo>
                  <a:pt x="20535" y="30890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440" y="2090880"/>
            <a:ext cx="582948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628880" y="8942400"/>
            <a:ext cx="18572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85440" y="8915400"/>
            <a:ext cx="2971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59120" y="9066960"/>
            <a:ext cx="243000" cy="4676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686E-750C-4D92-B694-32C29D164DA2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49320" y="100080"/>
            <a:ext cx="6759360" cy="9667800"/>
          </a:xfrm>
          <a:custGeom>
            <a:avLst/>
            <a:gdLst>
              <a:gd name="textAreaLeft" fmla="*/ 97560 w 6759360"/>
              <a:gd name="textAreaRight" fmla="*/ 6661800 w 6759360"/>
              <a:gd name="textAreaTop" fmla="*/ 97560 h 9667800"/>
              <a:gd name="textAreaBottom" fmla="*/ 9570240 h 9667800"/>
            </a:gdLst>
            <a:ahLst/>
            <a:rect l="textAreaLeft" t="textAreaTop" r="textAreaRight" b="textAreaBottom"/>
            <a:pathLst>
              <a:path w="21600" h="30894">
                <a:moveTo>
                  <a:pt x="1065" y="0"/>
                </a:moveTo>
                <a:arcTo wR="1065" hR="1065" stAng="16200000" swAng="-5400000"/>
                <a:lnTo>
                  <a:pt x="0" y="29829"/>
                </a:lnTo>
                <a:arcTo wR="1065" hR="1065" stAng="10800000" swAng="-5400000"/>
                <a:lnTo>
                  <a:pt x="20535" y="30894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47520" y="2093760"/>
            <a:ext cx="6766200" cy="220536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7520" y="2017800"/>
            <a:ext cx="6766200" cy="174600"/>
          </a:xfrm>
          <a:prstGeom prst="rect">
            <a:avLst/>
          </a:prstGeom>
          <a:solidFill>
            <a:srgbClr val="f6ce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7520" y="4299120"/>
            <a:ext cx="6766200" cy="160200"/>
          </a:xfrm>
          <a:prstGeom prst="rect">
            <a:avLst/>
          </a:prstGeom>
          <a:solidFill>
            <a:srgbClr val="a19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440" y="2090880"/>
            <a:ext cx="582948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628880" y="8942400"/>
            <a:ext cx="18572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85440" y="8915400"/>
            <a:ext cx="2971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59120" y="9066960"/>
            <a:ext cx="243000" cy="4676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8AF2-9C08-497C-A759-50F7012B323C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49320" y="103320"/>
            <a:ext cx="6765840" cy="9669240"/>
            <a:chOff x="49320" y="103320"/>
            <a:chExt cx="6765840" cy="966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9320" y="103320"/>
              <a:ext cx="6765840" cy="966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46160" y="198360"/>
              <a:ext cx="6565680" cy="9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52560" y="3433320"/>
            <a:ext cx="6759360" cy="13176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52560" y="3381480"/>
            <a:ext cx="6759360" cy="66600"/>
          </a:xfrm>
          <a:prstGeom prst="rect">
            <a:avLst/>
          </a:prstGeom>
          <a:solidFill>
            <a:srgbClr val="f6ce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50760" y="3565440"/>
            <a:ext cx="6761160" cy="66600"/>
          </a:xfrm>
          <a:prstGeom prst="rect">
            <a:avLst/>
          </a:prstGeom>
          <a:solidFill>
            <a:srgbClr val="a19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440" y="2090880"/>
            <a:ext cx="582948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628880" y="8942400"/>
            <a:ext cx="18572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600120" y="8915400"/>
            <a:ext cx="3000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159120" y="9064440"/>
            <a:ext cx="243000" cy="46728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ADB1-6DB4-4A38-8E13-DFAE0CDCF21A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47520" y="100080"/>
            <a:ext cx="6761160" cy="9669240"/>
          </a:xfrm>
          <a:custGeom>
            <a:avLst/>
            <a:gdLst>
              <a:gd name="textAreaLeft" fmla="*/ 97560 w 6761160"/>
              <a:gd name="textAreaRight" fmla="*/ 6663600 w 6761160"/>
              <a:gd name="textAreaTop" fmla="*/ 97560 h 9669240"/>
              <a:gd name="textAreaBottom" fmla="*/ 9571680 h 9669240"/>
            </a:gdLst>
            <a:ahLst/>
            <a:rect l="textAreaLeft" t="textAreaTop" r="textAreaRight" b="textAreaBottom"/>
            <a:pathLst>
              <a:path w="21600" h="30890">
                <a:moveTo>
                  <a:pt x="1065" y="0"/>
                </a:moveTo>
                <a:arcTo wR="1065" hR="1065" stAng="16200000" swAng="-5400000"/>
                <a:lnTo>
                  <a:pt x="0" y="29825"/>
                </a:lnTo>
                <a:arcTo wR="1065" hR="1065" stAng="10800000" swAng="-5400000"/>
                <a:lnTo>
                  <a:pt x="20535" y="30890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47520" y="100080"/>
            <a:ext cx="6761160" cy="9669240"/>
          </a:xfrm>
          <a:custGeom>
            <a:avLst/>
            <a:gdLst>
              <a:gd name="textAreaLeft" fmla="*/ 97560 w 6761160"/>
              <a:gd name="textAreaRight" fmla="*/ 6663600 w 6761160"/>
              <a:gd name="textAreaTop" fmla="*/ 97560 h 9669240"/>
              <a:gd name="textAreaBottom" fmla="*/ 9571680 h 9669240"/>
            </a:gdLst>
            <a:ahLst/>
            <a:rect l="textAreaLeft" t="textAreaTop" r="textAreaRight" b="textAreaBottom"/>
            <a:pathLst>
              <a:path w="21600" h="30890">
                <a:moveTo>
                  <a:pt x="1065" y="0"/>
                </a:moveTo>
                <a:arcTo wR="1065" hR="1065" stAng="16200000" swAng="-5400000"/>
                <a:lnTo>
                  <a:pt x="0" y="29825"/>
                </a:lnTo>
                <a:arcTo wR="1065" hR="1065" stAng="10800000" swAng="-5400000"/>
                <a:lnTo>
                  <a:pt x="20535" y="30890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440" y="2090880"/>
            <a:ext cx="582948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628880" y="8942400"/>
            <a:ext cx="18572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685440" y="8915400"/>
            <a:ext cx="2971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159120" y="9066960"/>
            <a:ext cx="243000" cy="4676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EEEB-7D84-4C22-ACD4-E72E32E4E319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47520" y="100080"/>
            <a:ext cx="6761160" cy="9669240"/>
          </a:xfrm>
          <a:custGeom>
            <a:avLst/>
            <a:gdLst>
              <a:gd name="textAreaLeft" fmla="*/ 97560 w 6761160"/>
              <a:gd name="textAreaRight" fmla="*/ 6663600 w 6761160"/>
              <a:gd name="textAreaTop" fmla="*/ 97560 h 9669240"/>
              <a:gd name="textAreaBottom" fmla="*/ 9571680 h 9669240"/>
            </a:gdLst>
            <a:ahLst/>
            <a:rect l="textAreaLeft" t="textAreaTop" r="textAreaRight" b="textAreaBottom"/>
            <a:pathLst>
              <a:path w="21600" h="30890">
                <a:moveTo>
                  <a:pt x="1065" y="0"/>
                </a:moveTo>
                <a:arcTo wR="1065" hR="1065" stAng="16200000" swAng="-5400000"/>
                <a:lnTo>
                  <a:pt x="0" y="29825"/>
                </a:lnTo>
                <a:arcTo wR="1065" hR="1065" stAng="10800000" swAng="-5400000"/>
                <a:lnTo>
                  <a:pt x="20535" y="30890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50760" y="6765840"/>
            <a:ext cx="6754680" cy="13176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50760" y="6716880"/>
            <a:ext cx="6754680" cy="66600"/>
          </a:xfrm>
          <a:prstGeom prst="rect">
            <a:avLst/>
          </a:prstGeom>
          <a:solidFill>
            <a:srgbClr val="f6ce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50760" y="6894360"/>
            <a:ext cx="6754680" cy="71640"/>
          </a:xfrm>
          <a:prstGeom prst="rect">
            <a:avLst/>
          </a:prstGeom>
          <a:solidFill>
            <a:srgbClr val="a19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3963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440" y="2090880"/>
            <a:ext cx="582948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628880" y="8942400"/>
            <a:ext cx="18572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685800" y="8915400"/>
            <a:ext cx="29145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159120" y="9064440"/>
            <a:ext cx="243000" cy="46728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94E2-0D86-4420-9F16-BBD553E95A71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0" descr=""/>
          <p:cNvPicPr/>
          <p:nvPr/>
        </p:nvPicPr>
        <p:blipFill>
          <a:blip r:embed="rId1"/>
          <a:stretch/>
        </p:blipFill>
        <p:spPr>
          <a:xfrm>
            <a:off x="2981160" y="344520"/>
            <a:ext cx="944640" cy="14349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"/>
          <p:cNvSpPr/>
          <p:nvPr/>
        </p:nvSpPr>
        <p:spPr>
          <a:xfrm>
            <a:off x="830160" y="2432160"/>
            <a:ext cx="54007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ff"/>
                </a:solidFill>
                <a:latin typeface="Sarun's Manorah"/>
                <a:cs typeface="Sarun's Manorah"/>
              </a:rPr>
              <a:t>คู่มื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ff"/>
                </a:solidFill>
                <a:latin typeface="Sarun's Manorah"/>
                <a:cs typeface="Sarun's Manorah"/>
              </a:rPr>
              <a:t>การจัดทำคำเสนอข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ff"/>
                </a:solidFill>
                <a:latin typeface="Sarun's Manorah"/>
                <a:cs typeface="Sarun's Manorah"/>
              </a:rPr>
              <a:t>งบประมาณเงินรายได้ ประจำปี </a:t>
            </a:r>
            <a:r>
              <a:rPr b="0" lang="th-TH" sz="3200" spc="-1" strike="noStrike">
                <a:solidFill>
                  <a:srgbClr val="0000ff"/>
                </a:solidFill>
                <a:latin typeface="Sarun's Manorah"/>
                <a:ea typeface="Sarun's Manorah"/>
              </a:rPr>
              <a:t>25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ff"/>
                </a:solidFill>
                <a:latin typeface="Sarun's Manorah"/>
                <a:ea typeface="Sarun's Manorah"/>
              </a:rPr>
              <a:t>( </a:t>
            </a:r>
            <a:r>
              <a:rPr b="0" lang="th-TH" sz="3200" spc="-1" strike="noStrike">
                <a:solidFill>
                  <a:srgbClr val="0000ff"/>
                </a:solidFill>
                <a:latin typeface="Sarun's Manorah"/>
                <a:cs typeface="Sarun's Manorah"/>
              </a:rPr>
              <a:t>คณะ </a:t>
            </a:r>
            <a:r>
              <a:rPr b="0" lang="th-TH" sz="3200" spc="-1" strike="noStrike">
                <a:solidFill>
                  <a:srgbClr val="0000ff"/>
                </a:solidFill>
                <a:latin typeface="Sarun's Manorah"/>
                <a:ea typeface="Sarun's Manorah"/>
              </a:rPr>
              <a:t>/ </a:t>
            </a:r>
            <a:r>
              <a:rPr b="0" lang="th-TH" sz="3200" spc="-1" strike="noStrike">
                <a:solidFill>
                  <a:srgbClr val="0000ff"/>
                </a:solidFill>
                <a:latin typeface="Sarun's Manorah"/>
                <a:cs typeface="Sarun's Manorah"/>
              </a:rPr>
              <a:t>วิทยาลัย </a:t>
            </a:r>
            <a:r>
              <a:rPr b="0" lang="th-TH" sz="3200" spc="-1" strike="noStrike">
                <a:solidFill>
                  <a:srgbClr val="0000ff"/>
                </a:solidFill>
                <a:latin typeface="Sarun's Manorah"/>
                <a:ea typeface="Sarun's Manorah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3784680" y="9158400"/>
            <a:ext cx="2889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ff"/>
                </a:solidFill>
                <a:latin typeface="Sarun's Manorah"/>
                <a:cs typeface="Sarun's Manorah"/>
              </a:rPr>
              <a:t>กองนโยบายและแผน มทร</a:t>
            </a:r>
            <a:r>
              <a:rPr b="0" lang="th-TH" sz="1800" spc="-1" strike="noStrike">
                <a:solidFill>
                  <a:srgbClr val="0000ff"/>
                </a:solidFill>
                <a:latin typeface="Sarun's Manorah"/>
                <a:ea typeface="Sarun's Manorah"/>
              </a:rPr>
              <a:t>.</a:t>
            </a:r>
            <a:r>
              <a:rPr b="0" lang="th-TH" sz="1800" spc="-1" strike="noStrike">
                <a:solidFill>
                  <a:srgbClr val="0000ff"/>
                </a:solidFill>
                <a:latin typeface="Sarun's Manorah"/>
                <a:cs typeface="Sarun's Manorah"/>
              </a:rPr>
              <a:t>ธัญบุร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Diagram 7" descr=""/>
          <p:cNvPicPr/>
          <p:nvPr/>
        </p:nvPicPr>
        <p:blipFill>
          <a:blip r:embed="rId2"/>
          <a:stretch/>
        </p:blipFill>
        <p:spPr>
          <a:xfrm>
            <a:off x="3676680" y="7162920"/>
            <a:ext cx="26384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helpdesk</cp:lastModifiedBy>
  <cp:lastPrinted>2017-02-02T06:39:38Z</cp:lastPrinted>
  <dcterms:modified xsi:type="dcterms:W3CDTF">2018-03-26T02:10:39Z</dcterms:modified>
  <cp:revision>679</cp:revision>
  <dc:subject/>
  <dc:title>Diapositiva 1</dc:title>
</cp:coreProperties>
</file>